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whoosh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E26C-FC98-4372-B150-4D7D21FA99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45D-5F1C-4C84-A581-2D9DA25D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51B-08BD-4491-B8F4-01689629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377-ED55-43CC-A7F1-B1F44192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074-D4BA-43EF-B1BA-C6DFA51F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184-2FB5-40FE-B515-51F8AC4A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CEE-2415-47F5-BAC8-1F00E969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7CE-892F-495D-B85C-5E836B86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EFE-6E99-4888-9C0D-C45913F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A1E-D04E-4A12-B411-E382F945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62C-1BBF-4AD1-9D62-D1A7F4B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780-2E2E-4908-A9FE-2D01D340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45A-57EC-41F1-8ED0-2A927A18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1C20-B0C7-471F-B83F-4D0C5D5C7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85840" y="1219320"/>
            <a:ext cx="2971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.B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Let’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Read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We Will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little about the author, E.B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bout the book “Trumpet of the Swa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ormation about the Trumpeter Swan such as size, nesting habits,what they eat, and where we can fin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.B.Wh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as awarded the 1970 Laura Ingalls Wilder Medal for his children’s books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tuart Lit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rlotte’s Web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ed on a farm in Maine, where he found the inspiration for his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ed on October 1, 198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E"/>
          <p:cNvPicPr/>
          <p:nvPr/>
        </p:nvPicPr>
        <p:blipFill>
          <a:blip r:embed="rId1"/>
          <a:stretch/>
        </p:blipFill>
        <p:spPr>
          <a:xfrm>
            <a:off x="5216400" y="2133720"/>
            <a:ext cx="31244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Three Most Famous Boo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tuart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Charlotte’s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my stories true, you ask? No, they are imaginary tales, containing fantastic characters and events. I I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, a swan doesn’t blow a trumpet. Bu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 is only one kind of life – there is also the life of the imagination. And although my stories are imaginary, I like to think that there is some truth in them, too – truth about the way people and animals feel and think and a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Trumpet of Swan"/>
          <p:cNvPicPr/>
          <p:nvPr/>
        </p:nvPicPr>
        <p:blipFill>
          <a:blip r:embed="rId1"/>
          <a:stretch/>
        </p:blipFill>
        <p:spPr>
          <a:xfrm>
            <a:off x="5689440" y="2133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er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trumpeter_swan_03"/>
          <p:cNvPicPr/>
          <p:nvPr/>
        </p:nvPicPr>
        <p:blipFill>
          <a:blip r:embed="rId2"/>
          <a:stretch/>
        </p:blipFill>
        <p:spPr>
          <a:xfrm>
            <a:off x="228600" y="228600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mpeters are the rarest swan in the world. They used to be abundant in North America but by the early 1900s, they were nearly extin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tional restoration program began in the 1930s and trumpeter swans have responded well. They are still considered vulnerable in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swan"/>
          <p:cNvPicPr/>
          <p:nvPr/>
        </p:nvPicPr>
        <p:blipFill>
          <a:blip r:embed="rId2"/>
          <a:stretch/>
        </p:blipFill>
        <p:spPr>
          <a:xfrm>
            <a:off x="5257800" y="1447920"/>
            <a:ext cx="3135240" cy="2438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25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0" y="2584440"/>
            <a:ext cx="482760" cy="351000"/>
            <a:chOff x="0" y="2584440"/>
            <a:chExt cx="482760" cy="351000"/>
          </a:xfrm>
        </p:grpSpPr>
        <p:sp>
          <p:nvSpPr>
            <p:cNvPr id="67" name="Rectangle 7"/>
            <p:cNvSpPr/>
            <p:nvPr/>
          </p:nvSpPr>
          <p:spPr>
            <a:xfrm>
              <a:off x="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0" y="2584440"/>
              <a:ext cx="4827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11"/>
          <p:cNvSpPr/>
          <p:nvPr/>
        </p:nvSpPr>
        <p:spPr>
          <a:xfrm>
            <a:off x="0" y="29354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3605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Nesting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umpeter Swan nesting territories range from 6 to 150 acres in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est-building begins in mid-April and may take up to two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he cygnets hatch in June, they weigh about 7 ounces. After a day or two, they take to the water to feed on insects and other aquatic inverteb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swanchicks"/>
          <p:cNvPicPr/>
          <p:nvPr/>
        </p:nvPicPr>
        <p:blipFill>
          <a:blip r:embed="rId2"/>
          <a:stretch/>
        </p:blipFill>
        <p:spPr>
          <a:xfrm>
            <a:off x="5105520" y="1447920"/>
            <a:ext cx="3782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Where We Find Trumpeter S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population map"/>
          <p:cNvPicPr/>
          <p:nvPr/>
        </p:nvPicPr>
        <p:blipFill>
          <a:blip r:embed="rId1"/>
          <a:stretch/>
        </p:blipFill>
        <p:spPr>
          <a:xfrm>
            <a:off x="1676520" y="1828800"/>
            <a:ext cx="614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1:42:25Z</dcterms:created>
  <dc:creator>.</dc:creator>
  <dc:description/>
  <dc:language>en-US</dc:language>
  <cp:lastModifiedBy>RomaK</cp:lastModifiedBy>
  <dcterms:modified xsi:type="dcterms:W3CDTF">2015-09-04T10:39:58Z</dcterms:modified>
  <cp:revision>12</cp:revision>
  <dc:subject/>
  <dc:title>The Trumpet of the Swans </dc:title>
</cp:coreProperties>
</file>